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1DB-DD3E-4695-92AA-EBDA49BF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4CB-5EE3-42C0-8B24-129D4BF5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861-0156-4F2D-891E-E518BF7B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874-F706-4B46-A4E9-EE25C91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DCA-BBEF-4E33-8407-47462E7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6CA-3B8D-43DB-86BA-69E38464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3CF-5953-4BE8-9054-1360EF8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BD7-4B2F-4B98-B388-65C277F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BA8-EA5F-4810-B300-5DCE370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C32-9B37-48A4-A173-1577BB9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6AB-AD48-4944-B705-FE78FC8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B5F-C2D0-4D8F-870F-FF9CAD6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F91-D1B8-4730-BAB9-27AAB315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1" idx="1"/>
            <a:endCxn id="100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6" idx="3"/>
            <a:endCxn id="104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2" idx="3"/>
            <a:endCxn id="96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1"/>
            <a:endCxn id="98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8" idx="1"/>
            <a:endCxn id="103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0" idx="1"/>
            <a:endCxn id="97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7-10-16T02:33:02Z</dcterms:modified>
  <cp:revision>1</cp:revision>
  <dc:subject/>
  <dc:title>ภาพนิ่ง 1</dc:title>
</cp:coreProperties>
</file>